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4A5-0331-4E86-8BAD-FBBE5DE8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C71-8BE6-4C68-AE62-8EBF144E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33BB4-6F21-46D7-B555-900EC791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CFE25-E622-46C3-9E39-F0957083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B9E2A-85AD-48AF-9A98-FBC10FFB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30C0F-3C4F-4046-967F-5C2C6DB3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52063-4592-447A-9CBB-7E9962F4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10FDC-D3E3-43F2-B854-6067247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B519-A423-4998-B82B-149F1D0A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BC7BF-59BB-4586-AC7C-9AF861E1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1FD21-D152-4BFF-B34C-2DC63310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8D9-3C2A-4846-A42A-77CEA745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41E-FF00-4618-B2D7-5597DE6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704-8484-402F-905D-05192CEE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B5D0-A8C6-4F7D-8B38-A9F82C1B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629-8EC6-4DCA-A174-C14E1A1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2E67-8ACE-49C1-B3D8-B81EFA3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685-A884-4B6A-85BE-909184B8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9FEC-1D2B-4286-BB31-A0895363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625B-165C-458A-BB58-A318DD56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A65-0147-43C0-B420-F34D2875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8B12-D4B0-4E44-9DBC-3F336A18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E36E-F329-4697-9E92-B91BCD65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3DE-AB6B-4197-96E6-D715F134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A76-5721-4247-B65F-40D0D5AF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20A3-DD84-4BCC-98D8-9A3CAE10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AAEF-223D-4458-8154-FF6B89EA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4A7C-34DF-4397-B722-696F2BC4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3304-04ED-402C-B1E9-F0D52764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654D-5E91-4513-B3DA-C82C31CF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98FA-4876-4A89-B24A-72B1C6E1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2E4-AD58-43E0-97B8-3D696531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1587D-2803-433A-8188-9F58973E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B898-61E5-4050-B3B2-8F05DAD9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0BFF-D66B-4BFD-ADDD-6BE50EA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5D74-A679-4AB7-B6D8-95EA37F0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0F65-29A2-4830-A521-5FA175E4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7FA7-65D5-46BC-8FF6-78025660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AACD-1285-47AD-9F61-4AFD8330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C0993-45CF-4011-8FE6-D5F36130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99A9-C342-4C63-88A7-04B71E88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AF4F-6056-49BE-9149-A05E174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772-BD53-4DFF-99F0-77FBDF35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3AC57-AC79-4DF1-9915-3B9DF8C3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EB4D-DB9F-4626-A773-3BA7B358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728A-1B3B-4B78-A73D-2815CA5C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FC8A-0268-4ADF-94CF-BABC8FDA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A07E4-5D90-4623-A897-2BD3EB5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E63F-5ECE-4ADF-91EA-CF44693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9A41-EA84-4875-A0DC-6C21B9A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E342-6198-4949-A431-E631A9E0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4333-D6CD-4A11-ABCB-854A7B72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8627-947E-46CD-B335-64248F67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DAB-12F6-490B-851F-F48413C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D232F-23E9-4C1C-834F-14E59B54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6B24-9B7D-46F4-B202-42E917A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C231-8654-4B72-B105-E6CCBA7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70D81-AAD7-4E62-A591-D95C3CE3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8577-959D-4E39-B5B6-FACF1298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4357-58E0-452B-89AE-BF0BCC38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87DE6-07FE-4580-A992-EF6DEB8A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F322-5CF6-4A24-AFBA-1A11907D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7E9E-CB89-4A04-B5E7-EC2DB926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B037-3086-4837-A0C1-AE3E1D58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00C-90CD-4790-B8C7-598DCE1A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2A58-4CCB-4C32-B917-C389D880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7CE65-16E7-4F32-959E-76868730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9B140-D5D3-4687-9D80-E050E4A8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0349E-FE73-4B15-8778-3EF132E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077F-6312-493F-B903-090EE28D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AA252-0DFA-42B2-AFC3-13B9E1BB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F97BE-1FAF-49A3-AA02-C5C3FF8A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63371-4D2E-4053-867B-D1F768D9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85566-152D-4717-AD42-88CAFE6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473B8-DA61-4286-8ED8-E2B0110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65C-8BB5-4CEF-BF4D-DB0587EE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C4D5E-9ACE-4986-A5CA-CD351412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00424-048B-47A9-9419-954B63A2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B76C-B215-4796-8323-3034FD8C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C9E36-BFAD-4467-8B55-B0231406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EB88-663C-489D-A123-952A40BA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8046-F005-49D9-ABE6-998C17C0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8C686-7408-40C0-9BAA-78FFB474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2CA9D-1A0C-44BE-AA96-CA789901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2A91-A09F-4781-80BA-0055E2E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0D9FA-4F37-451F-BF37-7E87B45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2B8-B0A3-4462-8E59-8ABF2EC2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8FDE8-8798-43B0-BF0A-9E31DED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84809-1F60-4561-9FF9-23067455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93BB4-F8FE-46BF-BF2B-D2B03F91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17BF4-2584-4B84-968A-DE26A2BE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A0CFE-5256-4946-A439-ADB22289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B1AA7-FB07-47BB-B7CF-BB7AA5C8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F0F7-E8CB-4132-AB8A-7EAE10DD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D314-A590-4FEC-B68B-4B791C68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37A6-0820-412C-890B-4FFFFFFF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93045-A007-4A69-A3DA-657B5E7E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CE2-D97E-4494-BD45-8E0FA96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72FFA-E101-4E9B-ABA4-38A186F6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FA03B-E147-407C-B32E-7A55F57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675A7-425B-4426-AC03-9901D7C4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3F775-733E-4ABD-99FE-E7EC5A0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6256C-8516-44F2-A0D8-28E4E445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7BBFB-E57E-4074-A930-AC6123B3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E3224-6F18-4B28-A32B-25157AF0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0FE82-F663-44F5-B7CB-B99B1FF1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8D9EF-18B4-4C18-AF2B-CC377DBE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27D3D-CBA5-43C8-998E-53A4940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CB87-BE71-4731-886D-83AE8F11F5B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3208-A12F-4822-85F4-307F9688C8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A3C3-209A-4D64-ADE5-B471326DAA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CECB-4DE4-420B-999A-556B6654EF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51A1-3745-443E-A3CF-44275EC3A82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4765-3A0F-446B-8F66-7B21E2E0BC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ED7-9846-4C0F-9886-14E2C0BDB0C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B7FB-0EE3-4D04-86FE-62C00E86EED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94B-B706-42B1-889C-6558194C20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3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7175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e3b30"/>
                </a:solidFill>
                <a:latin typeface="Franklin Gothic Book"/>
              </a:rPr>
              <a:t>Lydia is in the school band where she plays the flute.  She must practice her flute 5 hours each week.  She always plays her flute from 1 to 2 hours each time she practices.  There are 42 members in the band in all.  Five of the band members play the flute.</a:t>
            </a:r>
            <a:endParaRPr b="0" lang="en-US" sz="4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10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699760" cy="1268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218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many hours will Lydia practice in 4 week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268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28600" y="1294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would be a reasonable number of days for Lydia to practice her flute each wee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699760" cy="1268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2193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many minutes does Lydia practice her flute each wee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218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f Lydia practiced 2 hours on Monday and 2 Hours on Wednesday, how many minutes would she still have to practice that wee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219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many band members do not play the flut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22:12:55Z</dcterms:created>
  <dc:creator>127partidak</dc:creator>
  <dc:description/>
  <dc:language>en-US</dc:language>
  <cp:lastModifiedBy>127partidak</cp:lastModifiedBy>
  <dcterms:modified xsi:type="dcterms:W3CDTF">2012-02-03T22:27:44Z</dcterms:modified>
  <cp:revision>2</cp:revision>
  <dc:subject/>
  <dc:title>Information</dc:title>
</cp:coreProperties>
</file>